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349-DF05-4D55-B790-D6577EDB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D9C-064A-40AE-BBD3-82DFA1B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A7B-0DD8-409D-89FE-B803C3F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31C-3D79-437A-8918-8997288B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71D-F8E8-49B6-989E-8E95B450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89D7-8F47-4F9D-BB85-7CF0E984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5C27-086B-4BDD-8791-F1B3094E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0240-22D9-4821-9E93-0C1ED702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E02A-B2FD-4E1B-B310-0ACA15A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2AD2-E9E1-4762-8EB4-2E4A290E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DD65-A001-474C-BA6B-19472E9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E45-99FC-48DE-B927-687669F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0DA4-F166-4207-9716-CF97B64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DA0D-0606-480B-9021-3CA48CD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F137-BD3A-4C6A-92C7-E080629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F8C4-D6F7-49E7-A6E7-1CB1F090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1DCD-4F39-4B85-B3C8-2908F6F4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730-0D29-4B1A-A6FA-C9AA4A53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DF0-2D3B-43F0-BEBC-C7F66D3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057-D1D7-457B-B7B3-1531212B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940-D8D7-4656-9C45-12A4C48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356-336D-4DA8-B288-F2B16CAE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2C3-AB04-490C-AA43-E4C522C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6F5-F2AC-442C-B57F-3E3512E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91A0-DBBF-4EEF-824B-B13FCFFCD9B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83908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0DB1-EFC5-4041-9481-A27507BE836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839080" y="266688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ive Us A King -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United Kingdom, Par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rter 5, 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amuel 24:1-25, 22:1-51, 23:1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s 97-1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 Numbers Israel and Judah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-9; 1 Chron. 21:1-22:1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61976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tempted by Satan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Chron. 21: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ordered to number the fighting 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from other “number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reason - “th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know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b protested - but followed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,000 in Israel; 500,000 in Ju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0-13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conscience both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sked for forg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het Gad to David - choose one of three punish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years of fa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onths fleeing from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days of pesti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4-1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044800"/>
            <a:ext cx="8001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humbled himself befor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ent pestilence upon the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,000 men d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stopped the angel before Jerusa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’s inter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it upon me and my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od Punishes David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4:18-25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required to build an altar at Araunah’s (or Ornan)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unah’s genero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David bought the threshing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altar (future location of the temp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red sacri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d to G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gue sto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vid’s Song of Praise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2:1-51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543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after God delivered h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s of his enemies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hand of S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expres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God has been with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need to call upon the Lord for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rewarded according to righte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destruction of hi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od be the glory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Last Psalm of David </a:t>
            </a:r>
            <a:br>
              <a:rPr sz="40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2 Samuel 23:1-7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- the son of Jesse, raised up on high, anointed of God, a sweet psal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ired of the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escription of the ruler no doubt refers to the ruler with an everlasting covenant (Chr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the fate of the ungodl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1:04:10Z</dcterms:created>
  <dc:creator>Don Vines</dc:creator>
  <dc:description/>
  <dc:language>en-US</dc:language>
  <cp:lastModifiedBy>Frank D Vines</cp:lastModifiedBy>
  <dcterms:modified xsi:type="dcterms:W3CDTF">2005-07-19T14:59:14Z</dcterms:modified>
  <cp:revision>11</cp:revision>
  <dc:subject/>
  <dc:title>Give Us A King -  The United Kingdom</dc:title>
</cp:coreProperties>
</file>